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A75-A515-4FF7-A0DA-99A1E0B0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BAE-224E-40E5-8EE4-4EF8754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D69-4DDB-4E6D-8784-65E69D5B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626-3874-47AF-8989-5FEDB5E2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F39-7D82-472D-ACD5-8AD7EAC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7A0-862A-4A34-8413-391A4823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E7B-7EBA-40B1-BAF8-9AB89B16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E3E-98EB-4279-8EAD-81752E3C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17-2FDC-4CAC-A8A8-D1C48E2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0F2-1DC4-4EF9-8A2E-58CC3EE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899-4DB8-4DFF-8A2A-CB0F284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B32-AF3E-4868-957B-523498F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FA28-28FE-4BF0-BFBC-CF2544E3D9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56944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Знаешь, я всегда думал, какого же цвета небо и море. Я думал, что если пойму, что же представляет из себя цвет, распространяющийся до горизонта, то и я буду не таким блёклым по сравнению с другими людьми»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5648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а мальчика, который с рождения не различает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– это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3da9b8141c58.jpg"/>
          <p:cNvPicPr/>
          <p:nvPr/>
        </p:nvPicPr>
        <p:blipFill>
          <a:blip r:embed="rId1"/>
          <a:stretch/>
        </p:blipFill>
        <p:spPr>
          <a:xfrm>
            <a:off x="4643280" y="1484280"/>
            <a:ext cx="2737080" cy="4197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dd1a8d8157c5.jpg"/>
          <p:cNvPicPr/>
          <p:nvPr/>
        </p:nvPicPr>
        <p:blipFill>
          <a:blip r:embed="rId2"/>
          <a:stretch/>
        </p:blipFill>
        <p:spPr>
          <a:xfrm>
            <a:off x="971640" y="2708280"/>
            <a:ext cx="2997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– это во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User\Desktop\Моментальный снимок 1 (21.01.2015 23-30).png"/>
          <p:cNvPicPr/>
          <p:nvPr/>
        </p:nvPicPr>
        <p:blipFill>
          <a:blip r:embed="rId1"/>
          <a:stretch/>
        </p:blipFill>
        <p:spPr>
          <a:xfrm>
            <a:off x="1547640" y="2349360"/>
            <a:ext cx="581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человек видит ц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– это сиг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Моментальный снимок 2 (21.01.2015 23-42).png"/>
          <p:cNvPicPr/>
          <p:nvPr/>
        </p:nvPicPr>
        <p:blipFill>
          <a:blip r:embed="rId1"/>
          <a:stretch/>
        </p:blipFill>
        <p:spPr>
          <a:xfrm>
            <a:off x="2268360" y="2276640"/>
            <a:ext cx="6518520" cy="3673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priemka.jpg"/>
          <p:cNvPicPr/>
          <p:nvPr/>
        </p:nvPicPr>
        <p:blipFill>
          <a:blip r:embed="rId2"/>
          <a:stretch/>
        </p:blipFill>
        <p:spPr>
          <a:xfrm>
            <a:off x="250920" y="4005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 в куль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– это сим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822320"/>
          <a:ext cx="7848720" cy="434340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2255760"/>
                <a:gridCol w="166860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та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 день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лт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родное происх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лт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76" name="Рисунок 4" descr="2782323.JPG"/>
          <p:cNvPicPr/>
          <p:nvPr/>
        </p:nvPicPr>
        <p:blipFill>
          <a:blip r:embed="rId1"/>
          <a:stretch/>
        </p:blipFill>
        <p:spPr>
          <a:xfrm>
            <a:off x="2700360" y="3933720"/>
            <a:ext cx="1511280" cy="2265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1307188770_5.png"/>
          <p:cNvPicPr/>
          <p:nvPr/>
        </p:nvPicPr>
        <p:blipFill>
          <a:blip r:embed="rId2"/>
          <a:stretch/>
        </p:blipFill>
        <p:spPr>
          <a:xfrm>
            <a:off x="4500720" y="4005360"/>
            <a:ext cx="218412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User\Downloads\diagram-B8OC9c.png"/>
          <p:cNvPicPr/>
          <p:nvPr/>
        </p:nvPicPr>
        <p:blipFill>
          <a:blip r:embed="rId1"/>
          <a:stretch/>
        </p:blipFill>
        <p:spPr>
          <a:xfrm>
            <a:off x="755640" y="1341360"/>
            <a:ext cx="335268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User\Desktop\загруженное.png"/>
          <p:cNvPicPr/>
          <p:nvPr/>
        </p:nvPicPr>
        <p:blipFill>
          <a:blip r:embed="rId2"/>
          <a:stretch/>
        </p:blipFill>
        <p:spPr>
          <a:xfrm>
            <a:off x="4691160" y="1251000"/>
            <a:ext cx="3473280" cy="260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042920" y="4221000"/>
          <a:ext cx="7201080" cy="185436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ьма, пустота, т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м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я цвета и его оттенков в русск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692280"/>
          <a:ext cx="8507520" cy="818496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927080"/>
                <a:gridCol w="1297080"/>
                <a:gridCol w="1295280"/>
                <a:gridCol w="115272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амень,мет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с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л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цв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</a:tr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иня-чё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ес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оло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орской вол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небе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еп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электр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охрис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террако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л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агр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ыж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ультрама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из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х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изумру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алахи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неф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опал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квамарин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ирю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баль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е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винц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латин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нтраци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турма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олом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ал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травя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ал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таба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ла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индиг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ерван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ич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лим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брикос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алин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веко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вишнё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гран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олив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исташковый горох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фей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аштан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орех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оранж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пельсин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орко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ерси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лив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аклаж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озовый сакура чайная роза цикл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василь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иал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ирене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лил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иоле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живо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родукт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географ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b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9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лоновая 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аллов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урпур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анарее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о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ыши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жемчу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же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ежев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ур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перламутр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теле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ед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рем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лив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горч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фе с моло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ак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шоко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оло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фре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утыл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ирпи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арен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маджен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ож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борд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колько цветов вы знаете?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556000" y="537372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– 27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понец – 180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20150116_114952.jpg"/>
          <p:cNvPicPr/>
          <p:nvPr/>
        </p:nvPicPr>
        <p:blipFill>
          <a:blip r:embed="rId1"/>
          <a:stretch/>
        </p:blipFill>
        <p:spPr>
          <a:xfrm>
            <a:off x="5148360" y="134136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20150116_115054.jpg"/>
          <p:cNvPicPr/>
          <p:nvPr/>
        </p:nvPicPr>
        <p:blipFill>
          <a:blip r:embed="rId2"/>
          <a:stretch/>
        </p:blipFill>
        <p:spPr>
          <a:xfrm>
            <a:off x="468360" y="1359000"/>
            <a:ext cx="2855880" cy="2141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20150117_213653.jpg"/>
          <p:cNvPicPr/>
          <p:nvPr/>
        </p:nvPicPr>
        <p:blipFill>
          <a:blip r:embed="rId3"/>
          <a:stretch/>
        </p:blipFill>
        <p:spPr>
          <a:xfrm>
            <a:off x="2700360" y="2781360"/>
            <a:ext cx="3446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е по обогащению словарного запаса словами, обозначающими оттенки ц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среди учащихся начальных классов в городе Саяногорске конкурс «цветных» сказок с иллюстрациями авто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1005822622.jpg"/>
          <p:cNvPicPr/>
          <p:nvPr/>
        </p:nvPicPr>
        <p:blipFill>
          <a:blip r:embed="rId1"/>
          <a:stretch/>
        </p:blipFill>
        <p:spPr>
          <a:xfrm>
            <a:off x="2627280" y="4005360"/>
            <a:ext cx="1925640" cy="2481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1319481946_korolevsnvo_cvetov-03.jpg"/>
          <p:cNvPicPr/>
          <p:nvPr/>
        </p:nvPicPr>
        <p:blipFill>
          <a:blip r:embed="rId2"/>
          <a:stretch/>
        </p:blipFill>
        <p:spPr>
          <a:xfrm>
            <a:off x="6443640" y="4005360"/>
            <a:ext cx="187956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scrn_big_1.jpg"/>
          <p:cNvPicPr/>
          <p:nvPr/>
        </p:nvPicPr>
        <p:blipFill>
          <a:blip r:embed="rId3"/>
          <a:stretch/>
        </p:blipFill>
        <p:spPr>
          <a:xfrm>
            <a:off x="4910040" y="4724280"/>
            <a:ext cx="12366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Экспериментариум» г. Москв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юзии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ser\Desktop\Сонина работа\20141229_163938.jpg"/>
          <p:cNvPicPr/>
          <p:nvPr/>
        </p:nvPicPr>
        <p:blipFill>
          <a:blip r:embed="rId1"/>
          <a:stretch/>
        </p:blipFill>
        <p:spPr>
          <a:xfrm>
            <a:off x="4211640" y="3860640"/>
            <a:ext cx="4672080" cy="2627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20141229_163944.jpg"/>
          <p:cNvPicPr/>
          <p:nvPr/>
        </p:nvPicPr>
        <p:blipFill>
          <a:blip r:embed="rId2"/>
          <a:stretch/>
        </p:blipFill>
        <p:spPr>
          <a:xfrm>
            <a:off x="539640" y="2349360"/>
            <a:ext cx="39229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3" descr="20141229_171342.jpg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078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20141229_171344.jpg"/>
          <p:cNvPicPr/>
          <p:nvPr/>
        </p:nvPicPr>
        <p:blipFill>
          <a:blip r:embed="rId2"/>
          <a:stretch/>
        </p:blipFill>
        <p:spPr>
          <a:xfrm>
            <a:off x="3427560" y="3429000"/>
            <a:ext cx="54291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Ш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15640_603x354.jpg"/>
          <p:cNvPicPr/>
          <p:nvPr/>
        </p:nvPicPr>
        <p:blipFill>
          <a:blip r:embed="rId1"/>
          <a:stretch/>
        </p:blipFill>
        <p:spPr>
          <a:xfrm>
            <a:off x="611280" y="260280"/>
            <a:ext cx="78436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User\Desktop\Сонина работа\20141229_175501.jpg"/>
          <p:cNvPicPr/>
          <p:nvPr/>
        </p:nvPicPr>
        <p:blipFill>
          <a:blip r:embed="rId1"/>
          <a:stretch/>
        </p:blipFill>
        <p:spPr>
          <a:xfrm>
            <a:off x="-23760" y="-531720"/>
            <a:ext cx="4156200" cy="7389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20141229_175518.jpg"/>
          <p:cNvPicPr/>
          <p:nvPr/>
        </p:nvPicPr>
        <p:blipFill>
          <a:blip r:embed="rId2"/>
          <a:stretch/>
        </p:blipFill>
        <p:spPr>
          <a:xfrm>
            <a:off x="5286240" y="0"/>
            <a:ext cx="3711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– это волна, которая воспринимается глазом как сигнал и распознаётся моз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ятие цвета зависит от возраста, пола и культуры, а так же языка, на котором человек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цветов в русском языке можно классифицировать по источнику образования на 11 гру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гипотеза о том, что знания человека о цвете недостаточны, подтвердилась с помощью эксперимента. Действительно, люди видят цвета неодинаково, а язык, на котором говорит человек, влияет на то, как человек различает цвета и относится к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87280" y="2060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му «Цвет и чело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5076720" y="383868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: ученица 4 «б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ифорова Софья Андре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5076720" y="458136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ь: Ломаковская                                                                                      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исследовани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как знания детей о цвете недостаточны для того, чтобы оценить значение цвета в жизн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цв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люди воспринимают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вет предметов по-разн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 является цвет как явление природы 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следования является восприятие цвета человеком и его выражение в язы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, что такое цвет, как человек воспринимает цвет и как цвет выражается в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информацию о цвете в научно- популярных книгах для детей и на сайтах в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что такое ц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ь обозначения цвета в языках разных на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какие названия цветов и оттенков существуют в русском язы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ь цветовые ассоциации у русских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сколько и какие названия цветов и оттенков известны русским людям раз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ь способ по обогащению цветового вос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предположение, что не смотря на то, что цвет окружает человека с рождения, знания человека о цвете недостаточ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, люди видят цвета не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 язык, на котором говорит человек, влияет на то, как человек различает цвета и относит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сплошной выб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User</cp:lastModifiedBy>
  <dcterms:modified xsi:type="dcterms:W3CDTF">2015-03-03T06:55:04Z</dcterms:modified>
  <cp:revision>107</cp:revision>
  <dc:subject/>
  <dc:title>TITLE</dc:title>
</cp:coreProperties>
</file>